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4C2-0446-498A-ACE8-2D5FED62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C6A-2682-4999-B582-D84DB141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27E-61FB-4768-9928-83BF1C4A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BEA-B524-4E1E-BA00-27CF7AEA4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5B7A-C8ED-422A-83A5-FEC2B40B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FE93-145C-40FC-B1FE-E35767DA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AF4F-6CF6-412B-9C77-5886E7F7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C32B-C4A2-4790-A51B-8E501997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EF70-C10B-421C-B179-5770754D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ACEE-81B8-4BAA-A673-53D71A5B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750B-2270-4500-A1FE-611522EB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32B-D6FB-4D0B-BE65-3C81DA64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54AE-FC1C-4B0A-9044-A5224159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CBCF-A20E-4122-A714-AE4CF5A1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462A-A986-4E77-8A17-C01789CA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794A-7922-4D27-B02D-BB417C62B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1881-8007-4C0E-9D4B-2334599E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999-173B-42FE-9EBD-B6BA4543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1631-AFCE-416D-A803-8AB84EFB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EC6-FBAF-4A7B-99D9-A9D11C71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563-4D06-47AD-9853-259EBEDD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91E-A90B-41F7-A1E6-FADB8AFD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BDE-7C96-4F54-AD50-1E9F6EFF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AE8A-73DF-4EBC-934E-409D38A4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500B-A4D4-4DEC-83CF-BD105D36D01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685E-F480-4F3D-A6DC-355029E82820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44252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ge 18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ancemos 3 – Lección Prelimin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292929"/>
                </a:solidFill>
                <a:latin typeface="Arial"/>
              </a:rPr>
              <a:t>Reflexive Verbs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In English, we really don’t identify with reflexive verbs. So these will seem strange to you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In English, a sentence using a “so called” reflexive verb might be…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Lauren brushes her hair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Scott bathes himself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You must remember that these are actions being done </a:t>
            </a:r>
            <a:r>
              <a:rPr b="1" lang="en-US" sz="4800" spc="-1" strike="noStrike">
                <a:solidFill>
                  <a:srgbClr val="292929"/>
                </a:solidFill>
                <a:latin typeface="Arial"/>
              </a:rPr>
              <a:t>to oneself, by oneself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. For example: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I wash my (my own) hair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Pronou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01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m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to or for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yself)</a:t>
            </a: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te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to or for yourself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(to or for himself,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herself, itself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34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no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to or for ourselves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o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(to or for you all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se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to or for themselves,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ou all, or each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ther)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349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1447920"/>
            <a:ext cx="0" cy="49528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WASH ONE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I wash myself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ou wash yourself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He, She, It washes himself, etc.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We wash ourselv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They wash themselve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AVA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me lav</a:t>
            </a:r>
            <a:r>
              <a:rPr b="0" lang="en-US" sz="4400" spc="-1" strike="noStrike" u="sng">
                <a:solidFill>
                  <a:srgbClr val="292929"/>
                </a:solidFill>
                <a:uFillTx/>
                <a:latin typeface="Arial"/>
              </a:rPr>
              <a:t>o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te lav</a:t>
            </a:r>
            <a:r>
              <a:rPr b="0" lang="en-US" sz="4400" spc="-1" strike="noStrike" u="sng">
                <a:solidFill>
                  <a:srgbClr val="292929"/>
                </a:solidFill>
                <a:uFillTx/>
                <a:latin typeface="Arial"/>
              </a:rPr>
              <a:t>as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se lav</a:t>
            </a:r>
            <a:r>
              <a:rPr b="0" lang="en-US" sz="4400" spc="-1" strike="noStrike" u="sng">
                <a:solidFill>
                  <a:srgbClr val="292929"/>
                </a:solidFill>
                <a:uFillTx/>
                <a:latin typeface="Arial"/>
              </a:rPr>
              <a:t>a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75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nos lav</a:t>
            </a:r>
            <a:r>
              <a:rPr b="0" lang="en-US" sz="4400" spc="-1" strike="noStrike" u="sng">
                <a:solidFill>
                  <a:srgbClr val="292929"/>
                </a:solidFill>
                <a:uFillTx/>
                <a:latin typeface="Arial"/>
              </a:rPr>
              <a:t>amos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os lav</a:t>
            </a:r>
            <a:r>
              <a:rPr b="0" lang="en-US" sz="4400" spc="-1" strike="noStrike" u="sng">
                <a:solidFill>
                  <a:srgbClr val="292929"/>
                </a:solidFill>
                <a:uFillTx/>
                <a:latin typeface="Arial"/>
              </a:rPr>
              <a:t>áis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se lav</a:t>
            </a:r>
            <a:r>
              <a:rPr b="0" lang="en-US" sz="4400" spc="-1" strike="noStrike" u="sng">
                <a:solidFill>
                  <a:srgbClr val="292929"/>
                </a:solidFill>
                <a:uFillTx/>
                <a:latin typeface="Arial"/>
              </a:rPr>
              <a:t>an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Pronou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They can either go </a:t>
            </a:r>
            <a:r>
              <a:rPr b="1" lang="en-US" sz="4400" spc="-1" strike="noStrike">
                <a:solidFill>
                  <a:srgbClr val="999933"/>
                </a:solidFill>
                <a:latin typeface="Arial"/>
              </a:rPr>
              <a:t>before</a:t>
            </a: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 a conjugated verb or </a:t>
            </a:r>
            <a:r>
              <a:rPr b="1" lang="en-US" sz="4400" spc="-1" strike="noStrike">
                <a:solidFill>
                  <a:srgbClr val="999933"/>
                </a:solidFill>
                <a:latin typeface="Arial"/>
              </a:rPr>
              <a:t>attached </a:t>
            </a: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to an infinitive.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Pronou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Before the verb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33"/>
                </a:solidFill>
                <a:latin typeface="Arial"/>
              </a:rPr>
              <a:t>Me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voy a lavar el pelo.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fter the infinitive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Voy a lavar</a:t>
            </a:r>
            <a:r>
              <a:rPr b="1" lang="en-US" sz="4000" spc="-1" strike="noStrike">
                <a:solidFill>
                  <a:srgbClr val="999933"/>
                </a:solidFill>
                <a:latin typeface="Arial"/>
              </a:rPr>
              <a:t>me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el pelo.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Let’s do more verbs!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4343400"/>
            <a:ext cx="4952880" cy="0"/>
          </a:xfrm>
          <a:prstGeom prst="line">
            <a:avLst/>
          </a:prstGeom>
          <a:ln w="7632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EPILLA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me cepill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te cepill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se cepill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75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nos cepill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mo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os cepill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ái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se cepill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n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99000" y="1417680"/>
            <a:ext cx="6406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Do you remember your</a:t>
            </a:r>
            <a:endParaRPr b="0" lang="en-US" sz="4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Indirect Object </a:t>
            </a:r>
            <a:endParaRPr b="0" lang="en-US" sz="4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Pronouns?</a:t>
            </a:r>
            <a:endParaRPr b="0" lang="en-US" sz="4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4648320"/>
            <a:ext cx="4800600" cy="0"/>
          </a:xfrm>
          <a:prstGeom prst="line">
            <a:avLst/>
          </a:prstGeom>
          <a:ln w="7632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UCHA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me duch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o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te duch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se duch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54240" y="1981080"/>
            <a:ext cx="375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nos duch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mo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os duch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áis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se duch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n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When using reflexive verbs to talk about parts of the body, use the definite article.  (the el, la, los, las that mean “the”)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Nos lavamos</a:t>
            </a:r>
            <a:r>
              <a:rPr b="1" lang="en-US" sz="4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9933"/>
                </a:solidFill>
                <a:latin typeface="Arial"/>
              </a:rPr>
              <a:t>el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 pelo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¿Te cepillas </a:t>
            </a:r>
            <a:r>
              <a:rPr b="1" lang="en-US" sz="4800" spc="-1" strike="noStrike">
                <a:solidFill>
                  <a:srgbClr val="999933"/>
                </a:solidFill>
                <a:latin typeface="Arial"/>
              </a:rPr>
              <a:t>los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 dientes?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rect Object Pronou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me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(to or for me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te</a:t>
            </a: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(to or for you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le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(to or for him,      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her, it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43040" y="1981080"/>
            <a:ext cx="455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07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nos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  (to or for us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les  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(to or for them,   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you all)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07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2929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ment of Indirect Object Pro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11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Indirect Object Pronouns, me, te, le, nos, and les are placed either </a:t>
            </a:r>
            <a:r>
              <a:rPr b="1" lang="en-US" sz="4400" spc="-1" strike="noStrike">
                <a:solidFill>
                  <a:srgbClr val="292929"/>
                </a:solidFill>
                <a:latin typeface="Arial"/>
              </a:rPr>
              <a:t>before a conjugated verb</a:t>
            </a: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 or </a:t>
            </a:r>
            <a:r>
              <a:rPr b="1" lang="en-US" sz="4400" spc="-1" strike="noStrike">
                <a:solidFill>
                  <a:srgbClr val="292929"/>
                </a:solidFill>
                <a:latin typeface="Arial"/>
              </a:rPr>
              <a:t>attached to the end of an infinitive.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373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fore the verb or after the infinitiv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1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Before the verb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11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¿</a:t>
            </a:r>
            <a:r>
              <a:rPr b="1" lang="en-US" sz="4400" spc="-1" strike="noStrike">
                <a:solidFill>
                  <a:srgbClr val="292929"/>
                </a:solidFill>
                <a:latin typeface="Arial"/>
              </a:rPr>
              <a:t>Le</a:t>
            </a: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 vas a dar el libro a Elena?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Sí, 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le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voy a dar el libro a Elena.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4000" spc="-1" strike="noStrike" u="sng">
                <a:solidFill>
                  <a:srgbClr val="292929"/>
                </a:solidFill>
                <a:uFillTx/>
                <a:latin typeface="Arial"/>
              </a:rPr>
              <a:t>After the infinitive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¿Vas a dar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le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el libro a Elena?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11840" indent="-411840">
              <a:spcBef>
                <a:spcPts val="10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Sí, voy a dar</a:t>
            </a:r>
            <a:r>
              <a:rPr b="1" lang="en-US" sz="4000" spc="-1" strike="noStrike">
                <a:solidFill>
                  <a:srgbClr val="292929"/>
                </a:solidFill>
                <a:latin typeface="Arial"/>
              </a:rPr>
              <a:t>le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el libro a Elena.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320" y="380880"/>
            <a:ext cx="76147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Today we are learning about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reflexive verbs and they have 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pronouns much like Indirect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Object Pronouns and are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used much in the same way.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Make sure you have your 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Indirect Object Pronouns 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92929"/>
                </a:solidFill>
                <a:latin typeface="Arial"/>
              </a:rPr>
              <a:t>memorized.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Reflexive verbs are used to tell that a person does something to or for him- or herself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Reflexive verbs have two parts:  </a:t>
            </a:r>
            <a:br>
              <a:rPr sz="4800"/>
            </a:b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1.  a reflexive pronoun 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(me, te, se, nos, se) </a:t>
            </a:r>
            <a:br>
              <a:rPr sz="4800"/>
            </a:b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2.  and a verb form.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flexive 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LAVAR</a:t>
            </a:r>
            <a:r>
              <a:rPr b="1" lang="en-US" sz="4800" spc="-1" strike="noStrike">
                <a:solidFill>
                  <a:srgbClr val="292929"/>
                </a:solidFill>
                <a:latin typeface="Arial"/>
              </a:rPr>
              <a:t>SE</a:t>
            </a: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(to wash oneself)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092600">
            <a:off x="1865160" y="2318760"/>
            <a:ext cx="1219320" cy="1752480"/>
          </a:xfrm>
          <a:custGeom>
            <a:avLst/>
            <a:gdLst>
              <a:gd name="textAreaLeft" fmla="*/ 779040 w 1219320"/>
              <a:gd name="textAreaRight" fmla="*/ 1219680 w 121932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63920" y="3803760"/>
            <a:ext cx="136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Verb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Form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70200">
            <a:off x="3157200" y="2862000"/>
            <a:ext cx="1295280" cy="752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19440 h 752400"/>
              <a:gd name="textAreaBottom" fmla="*/ 732960 h 75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38"/>
                </a:lnTo>
                <a:cubicBezTo>
                  <a:pt x="10800" y="9338"/>
                  <a:pt x="5400" y="10238"/>
                  <a:pt x="0" y="10238"/>
                </a:cubicBezTo>
                <a:cubicBezTo>
                  <a:pt x="5400" y="10238"/>
                  <a:pt x="10800" y="11138"/>
                  <a:pt x="10800" y="1203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8880" y="3809880"/>
            <a:ext cx="22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Reflexive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Pronoun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1:17:22Z</dcterms:created>
  <dc:creator>Tom Shirley</dc:creator>
  <dc:description/>
  <dc:language>en-US</dc:language>
  <cp:lastModifiedBy>Local User</cp:lastModifiedBy>
  <cp:lastPrinted>2009-04-22T19:24:48Z</cp:lastPrinted>
  <dcterms:modified xsi:type="dcterms:W3CDTF">2009-08-17T20:39:21Z</dcterms:modified>
  <cp:revision>13</cp:revision>
  <dc:subject/>
  <dc:title>PowerPoint Presentation</dc:title>
</cp:coreProperties>
</file>